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EDBB-B73C-48DD-8314-C71A433CF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8E4D-E1E4-44FB-898A-66C04F7DC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20BA-F842-40AB-97E6-94756FEC3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2EA0-B23D-432A-A3B1-04CA41F10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0EF91-05AC-466A-A719-9F42F0468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46C0F-0C2D-44F1-BAEA-D7800C51D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DB935-7FD8-4392-9B8B-9CF301420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F1969-0CFB-4FC3-9B95-F7DE8B399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7D546-6AD6-4C52-B191-0B1B23F39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53B60-9DF2-4E92-8A5E-3B608A72B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21B19-84EE-4516-B8CD-A13475C5C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CA31-9C1C-4658-9EE5-32E77ED9C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F3080-14A5-40E5-BA30-88000687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9958F-98A7-4EA8-B451-A0EEF845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B11EB-0AE6-431D-A5D2-EAC6171C4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C7DFD-0C50-4DA7-BE4D-2B9BCC695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FD16C-376D-42E4-B483-FDD714F09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E6EF-B292-4472-8AD5-5D7D38BAD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E5FA-FFEF-40AA-B47D-4BAB9316F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BAC1-8BEB-43D3-BBF1-4412D91F5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3841-48E9-48B1-AF24-6228F76CC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5B18-3936-4741-93DD-5BA149EDF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B8CB-2C8E-4BC7-88B0-42BEB1123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BD7F-7631-436F-A978-4B7F0A23D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53A16-A2AF-4D5C-B492-9BD5586E0EA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7A76B-C530-4AFC-AADF-FC6484A760B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200" spc="-1" strike="noStrike">
                <a:solidFill>
                  <a:srgbClr val="ffffff"/>
                </a:solidFill>
                <a:latin typeface="Times New Roman"/>
              </a:rPr>
              <a:t>No Ordinary Sun</a:t>
            </a:r>
            <a:r>
              <a:rPr b="0" lang="en-NZ" sz="6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ffffff"/>
                </a:solidFill>
                <a:latin typeface="Arial"/>
              </a:rPr>
              <a:t>By Hone Tuwha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imes New Roman"/>
              </a:rPr>
              <a:t>No Ordinary Su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Personifica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Let your arms lack toughnes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Who is the poet addressing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0000"/>
                </a:solidFill>
                <a:latin typeface="Arial"/>
              </a:rPr>
              <a:t>The tre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imes New Roman"/>
              </a:rPr>
              <a:t>No Ordinary Su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Let your arms lack toughnes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What other instances of personification can you find in the poem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imes New Roman"/>
              </a:rPr>
              <a:t>No Ordinary Su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Personifica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Let your arms lack toughnes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What other instances of personification can you find in the poem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0000"/>
                </a:solidFill>
                <a:latin typeface="Arial"/>
              </a:rPr>
              <a:t>O tree/…a deferential head/…your naked arms fall/…More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imes New Roman"/>
              </a:rPr>
              <a:t>No Ordinary Sun – In pai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Highlight and count the number of times the words </a:t>
            </a:r>
            <a:r>
              <a:rPr b="0" i="1" lang="en-NZ" sz="3100" spc="-1" strike="noStrike">
                <a:solidFill>
                  <a:srgbClr val="ff0000"/>
                </a:solidFill>
                <a:latin typeface="Arial"/>
              </a:rPr>
              <a:t>no, not, nor </a:t>
            </a: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are used in the first four verse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What does their use suggest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imes New Roman"/>
              </a:rPr>
              <a:t>No Ordinary Sun – In pai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What kind of associations do the words </a:t>
            </a:r>
            <a:r>
              <a:rPr b="0" i="1" lang="en-NZ" sz="3100" spc="-1" strike="noStrike">
                <a:solidFill>
                  <a:srgbClr val="ff0000"/>
                </a:solidFill>
                <a:latin typeface="Arial"/>
              </a:rPr>
              <a:t>supplication </a:t>
            </a: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i="1" lang="en-NZ" sz="3100" spc="-1" strike="noStrike">
                <a:solidFill>
                  <a:srgbClr val="ff0000"/>
                </a:solidFill>
                <a:latin typeface="Arial"/>
              </a:rPr>
              <a:t>enhaloed </a:t>
            </a: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have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imes New Roman"/>
              </a:rPr>
              <a:t>No Ordinary Sun – In pai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What relationship does an </a:t>
            </a:r>
            <a:r>
              <a:rPr b="0" i="1" lang="en-NZ" sz="3100" spc="-1" strike="noStrike">
                <a:solidFill>
                  <a:srgbClr val="ff0000"/>
                </a:solidFill>
                <a:latin typeface="Arial"/>
              </a:rPr>
              <a:t>axe </a:t>
            </a: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i="1" lang="en-NZ" sz="3100" spc="-1" strike="noStrike">
                <a:solidFill>
                  <a:srgbClr val="ff0000"/>
                </a:solidFill>
                <a:latin typeface="Arial"/>
              </a:rPr>
              <a:t>fire </a:t>
            </a: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usually have to a tree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How is the use of this in </a:t>
            </a:r>
            <a:r>
              <a:rPr b="1" lang="en-NZ" sz="3100" spc="-1" strike="noStrike">
                <a:solidFill>
                  <a:srgbClr val="ffffff"/>
                </a:solidFill>
                <a:latin typeface="Arial"/>
              </a:rPr>
              <a:t>line five</a:t>
            </a: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, verse one connected to the bright enhaloed cloud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imes New Roman"/>
              </a:rPr>
              <a:t>No Ordinary Sun – In pai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910880"/>
            <a:ext cx="81532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What picture of the tree is suggested in verse two with the words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100" spc="-1" strike="noStrike">
                <a:solidFill>
                  <a:srgbClr val="ff0000"/>
                </a:solidFill>
                <a:latin typeface="Arial"/>
              </a:rPr>
              <a:t>rising sap, inclining head, stirring to the tickle of the rain</a:t>
            </a: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imes New Roman"/>
              </a:rPr>
              <a:t>No Ordinary Sun – In pai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What three activities does verse 3 suggest that the tree used to be involved in before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imes New Roman"/>
              </a:rPr>
              <a:t>No Ordinary Sun – In pai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What three activities does verse 3 suggest that the tree used to be involved in before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0000"/>
                </a:solidFill>
                <a:latin typeface="Arial"/>
              </a:rPr>
              <a:t>Wreathed with birds, shield and cool the lover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Before what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imes New Roman"/>
              </a:rPr>
              <a:t>No Ordinary Sun – In pai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ffffff"/>
                </a:solidFill>
                <a:latin typeface="Arial"/>
              </a:rPr>
              <a:t>What is the connection between.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700" spc="-1" strike="noStrike">
                <a:solidFill>
                  <a:srgbClr val="ff0000"/>
                </a:solidFill>
                <a:latin typeface="Arial"/>
              </a:rPr>
              <a:t>CLOUD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700" spc="-1" strike="noStrike">
                <a:solidFill>
                  <a:srgbClr val="ff0000"/>
                </a:solidFill>
                <a:latin typeface="Arial"/>
              </a:rPr>
              <a:t>MONSTROUS SU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700" spc="-1" strike="noStrike">
                <a:solidFill>
                  <a:srgbClr val="ff0000"/>
                </a:solidFill>
                <a:latin typeface="Arial"/>
              </a:rPr>
              <a:t>RADIANT BAL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700" spc="-1" strike="noStrike">
                <a:solidFill>
                  <a:srgbClr val="ff0000"/>
                </a:solidFill>
                <a:latin typeface="Arial"/>
              </a:rPr>
              <a:t>FLASH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700" spc="-1" strike="noStrike">
                <a:solidFill>
                  <a:srgbClr val="ff0000"/>
                </a:solidFill>
                <a:latin typeface="Arial"/>
              </a:rPr>
              <a:t>BLAS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ffffff"/>
                </a:solidFill>
                <a:latin typeface="Arial"/>
              </a:rPr>
              <a:t>What image do you have in your mind when reading these words?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imes New Roman"/>
              </a:rPr>
              <a:t>Hone Tuwha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Born in Kaipara in 1922. Died in Otago 2008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ribal affiliations; Ngapuhi, Ngati Korokoro, Ngati Tautahi, Te Popoto, Uri-O-Hau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Apprenticed and worked as a boilermaker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layed a very active role in the Trade Union Movement – eventually kicked out for being a troublemaker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Began writing poetry seriously at the age of 34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ublished many poems in magazines and a number of poetry collections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"No Ordinary Sun" was published in 1964 and is still considered one of his most powerful poems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700360" y="1341360"/>
            <a:ext cx="3686040" cy="46292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imes New Roman"/>
              </a:rPr>
              <a:t>No Ordinary Sun – In pai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imes New Roman"/>
              </a:rPr>
              <a:t>No Ordinary Sun – In pai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ffffff"/>
                </a:solidFill>
                <a:latin typeface="Arial"/>
              </a:rPr>
              <a:t>Poetic Devic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ffffff"/>
                </a:solidFill>
                <a:latin typeface="Arial"/>
              </a:rPr>
              <a:t>Alliterati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ffffff"/>
                </a:solidFill>
                <a:latin typeface="Arial"/>
              </a:rPr>
              <a:t>Personificati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ffffff"/>
                </a:solidFill>
                <a:latin typeface="Arial"/>
              </a:rPr>
              <a:t>Assonanc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ffffff"/>
                </a:solidFill>
                <a:latin typeface="Arial"/>
              </a:rPr>
              <a:t>Rhym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ffffff"/>
                </a:solidFill>
                <a:latin typeface="Arial"/>
              </a:rPr>
              <a:t>Rhythm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ffffff"/>
                </a:solidFill>
                <a:latin typeface="Arial"/>
              </a:rPr>
              <a:t>Find at least three examples for each in the poem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imes New Roman"/>
              </a:rPr>
              <a:t>No Ordinary Su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Unfamiliar Word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ffffff"/>
                </a:solidFill>
                <a:latin typeface="Arial"/>
              </a:rPr>
              <a:t>Supplication</a:t>
            </a:r>
            <a:r>
              <a:rPr b="0" lang="en-NZ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ff0000"/>
                </a:solidFill>
                <a:latin typeface="Arial"/>
              </a:rPr>
              <a:t>a humble and sincere appeal to somebody who has the power to grant a reques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ffffff"/>
                </a:solidFill>
                <a:latin typeface="Arial"/>
              </a:rPr>
              <a:t>Resilience</a:t>
            </a:r>
            <a:r>
              <a:rPr b="0" lang="en-NZ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ff0000"/>
                </a:solidFill>
                <a:latin typeface="Arial"/>
              </a:rPr>
              <a:t>the ability to recover quickly from set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imes New Roman"/>
              </a:rPr>
              <a:t>No Ordinary Su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Unfamiliar Word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Deferential</a:t>
            </a: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0000"/>
                </a:solidFill>
                <a:latin typeface="Arial"/>
              </a:rPr>
              <a:t>Showing or expressing polite respect or courtes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Ardou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0000"/>
                </a:solidFill>
                <a:latin typeface="Arial"/>
              </a:rPr>
              <a:t>Great passion, enthusiasm, or eagernes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imes New Roman"/>
              </a:rPr>
              <a:t>No Ordinary Su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Unfamiliar Word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Unheeding</a:t>
            </a: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0000"/>
                </a:solidFill>
                <a:latin typeface="Arial"/>
              </a:rPr>
              <a:t>Paying little att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Vain entreati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0000"/>
                </a:solidFill>
                <a:latin typeface="Arial"/>
              </a:rPr>
              <a:t>Hopeless appeal, ineffective reques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imes New Roman"/>
              </a:rPr>
              <a:t>No Ordinary Su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Unfamiliar Word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Gallant monsoon</a:t>
            </a: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0000"/>
                </a:solidFill>
                <a:latin typeface="Arial"/>
              </a:rPr>
              <a:t>Grand and majestic ‘wave’/’wind’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Trade wind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0000"/>
                </a:solidFill>
                <a:latin typeface="Arial"/>
              </a:rPr>
              <a:t>A wind that blows towards the equator  - a major component of the global weather system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imes New Roman"/>
              </a:rPr>
              <a:t>No Ordinary Su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Unfamiliar Word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enhaloed</a:t>
            </a: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0000"/>
                </a:solidFill>
                <a:latin typeface="Arial"/>
              </a:rPr>
              <a:t>A circle/ring of light (in this instance around the cloud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imes New Roman"/>
              </a:rPr>
              <a:t>No Ordinary Su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Personifica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imes New Roman"/>
              </a:rPr>
              <a:t>No Ordinary Su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Personifica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Let your arms lack toughnes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Who is the poet addressing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22:26:23Z</dcterms:created>
  <dc:creator>Ministry of Education</dc:creator>
  <dc:description/>
  <dc:language>en-US</dc:language>
  <cp:lastModifiedBy>egraham</cp:lastModifiedBy>
  <dcterms:modified xsi:type="dcterms:W3CDTF">2009-03-25T23:55:27Z</dcterms:modified>
  <cp:revision>7</cp:revision>
  <dc:subject/>
  <dc:title>Reading Poetry</dc:title>
</cp:coreProperties>
</file>